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1192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9040" y="4762080"/>
            <a:ext cx="5510160" cy="4506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99B662A-5AD9-40BD-87D6-9706839B2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-609480" y="887400"/>
            <a:ext cx="5905440" cy="44290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4111200"/>
            <a:ext cx="53370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E9D-606C-4B11-9B07-477E6D7A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519-C2DF-40F3-B148-3FB2674C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F3D-81F7-4159-BFD4-67941B5B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B19-234A-4072-B946-F187216D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5E2F-15FF-4556-BDD9-6025D024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878E-81DB-4125-9506-3AE35851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E9CF-0467-417E-AE4D-AB0A7BEE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0486-FB4E-4BBF-ADC6-F2044F82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4611-46E4-4110-99A2-C8E1BC1A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3B37-74D4-4FC1-82DD-7F2409E4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13F0-EEFB-436D-8A1C-942C5C7C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74A-E54F-41EB-B0AE-C3B71A10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6A1B-9C2C-4431-8DD1-6B4E10A7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15CC-06FD-4A89-AC23-18A4CB52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CF2B-F351-410B-AAD0-FC535D47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76CE-EECB-4087-866A-C1E09BF9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3638-C17C-4C85-B9D8-E1B48DC9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BE0-02DD-4655-8E24-BA13BF4B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293-FD12-4858-8AB4-4682AA55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8BC-D0CF-4B50-B33D-2FAC1014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2C0-6C33-4808-A7D4-A40F1DD2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4AD-F540-411E-A7B6-2EC3108E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261-C5E2-4C4C-9FEF-E802110E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25B-0AA3-4CAD-ACF4-EE015055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7104-0B43-4772-9519-8728F89F5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B484-A7BB-4358-B2BC-A0681F6FE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ikrotik.com/2index.html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krotik.com/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Router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 al sistema operativo RouterOS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s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hernet 10/100, Giga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alámbrica (Atheros, Prism, CISCO/Airo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nto de acceso o modo estación/cli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cronas: V35, T1, Frame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íncronas: Onboard serial, 8-port P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rtual LAN (V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acceder al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ea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ikroTik pueden ser accedidos ví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 y tec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 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lnet d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se grafica Win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erramientas de manejo de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outerOS ofrece un buen numero de herramient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ng, trace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dor de ancho de b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abilización de tra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niffer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MikroTik™ v2.6 PC Router Softwa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484280"/>
            <a:ext cx="3166920" cy="2664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300720" y="4221000"/>
            <a:ext cx="2303640" cy="18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ce C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imera vez que se entra use ‘admin’ sin pass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dentro teclee ‘?’ para ver los comandos disponibles en este nivel de men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interfa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gumentos disponibles para cada comando se obtienen de la misma manera: ‘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Navegación vía menús CL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ya a un nivel diferente de comandos usando sintaxis absoluta o rela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interface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&gt; wireless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wireless &gt; .. eth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interface ethernet &gt; print {Enter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tecla [Tab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andos y argumentos no necesitan ser completamente tecleados, con teclear la tabla [Tab] se comple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un simple [Tab] no completa el comando, presiónelo 2 veces para ver las opciones disponi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andos mas pop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93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andos mas populares en RouterOS en los menús CLI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nt y 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t y 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/ 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able / d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t’ y ‘Monitor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nt’ es uno de los mas usados en CLI. Imprime una lista de cosas y puede ser usado con diferentes argumentos,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stat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interval=2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without-pag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‘print ?’ para ver los argumentos dispon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nitor’ usado repetidamente muestra el e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nterface wireless monitor wlan1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‘add’, ‘set’, o ‘remove’ para adicionar, cambiar, o remov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ueden ser deshabilitados sin removerlos, usando el comando ‘disabled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l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ueden ser mov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 con el comando ‘move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inBox G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 es mucho mas fácil que el CLI, al ser una interfase gra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.exe es un pequeño programa que se ejecuta desde una estación de trabajo conectada a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.exe corre bajo WINE en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inbox usa el puerto TCP 8291 para conectarse al rute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unicación entre el winbox y el ruteador esta encrip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Que es el Router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outerOS es un sistema operativo y software que convierte a una PC en un ruteador dedicado, bridge, firewall, controlador de ancho de banda, punto de acceso inalámbrico o cliente y mucho m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outerOS puede hacer casi cualquier cosa que tenga que ver con tus necesidades de red, además de cierta funcionalidad como servi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stalación del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teador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Mikro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r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MikroTik puede ser instalado us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loppy disk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y tedio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D creado desde una imagen ISO, contiene todos los paqu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ía red usando netinstall, la pc donde se insta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be botear con un floppy, o usando Protocolos PXE o EtherBoot desde algunas ROMS de ciertas tarjetas de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imagen de 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Memoria Flash/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et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 es un programa que convierte tu estación de trabajo en un ser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or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insta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 usa los paquetes de programas desde tu estacion de trabajo y los instala 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C que boteo usando PXE or Ether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co secundario de tu estación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tinstall.exe y los programas de paquetes pueden ser bajados desde mikrotik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Insta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bilite el RouterBoard para botar desde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RouterBoard y tu estación de trabajo deben estar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ismo segmento de red o conectados con un cable cru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te netinstall en tu estación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el ruteador donde se insta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e los paquetes de programa a inst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te el Boot Server y la dirección del cliente (poner direccion ip del mismo segmento que tenga la pc a instal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on de Net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09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tualizando el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nga los archivos de las  nuevas versiones en el router por medio de FTP usando modo binario de transmision y reinicie el router “/system rebo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mente puedes usar la instrucción “/system upgrade” para transferir los archivos desde un server FTP o desde otro ruteador si los tienes ahí.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figuración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faces deben estar habilitadas y funcionando (cables conectados, interfase inalámbrica configur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ones IP asignadas a las interf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/ip addres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address=10.1.0.2/24 interface=ethe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icione la ruta d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[MikroTik] &gt; /ip route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gateway=10.1.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ando ‘Setup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e el comando ‘setup’ para la configuración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otros menús tienen opción de setup, entre el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tSpot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HCP serve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fase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faces Bridge son anadidas con el com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[MikroTik] &gt; /interface bridge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haber mas de una interfase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u pue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ar el nombre de la interfase Bridg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tar el STP (Spanning Tree Protocol) y configurar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ar los protocolos a pasar de un bridge a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uertos de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8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Interfase puede ser configurada para ser miembro de un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faces inalámbricas en modo estación no pueden ser parte de un bri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oridad y costo de path pueden ser ajustadas para su uso con S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348000" y="1413000"/>
            <a:ext cx="5580000" cy="447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Configuración de una Red Priv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ecta tu ruteador  vía cable cruz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cuta Mac-Telnet para conectarte a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mueve todas las direcciones de las interf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lecciona una red privada para 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0…., or 192.168…., or 172.16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 una dirección privada para la ethe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o en kernel de 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ejecutarse desde discos IDE o módulos de memoria fla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mod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s actualiz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fase grafica amig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48360" y="3206880"/>
            <a:ext cx="3024000" cy="254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095640" cy="16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DH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cuta el setup  /ip dhcp-server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las ips de tus ruteadores como servidores DNS en la configuración de 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a si la estación de trabajo recibe una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a las ips asign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dhcp-server lease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178000" y="1268280"/>
            <a:ext cx="4481640" cy="48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ios del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glas de firewall están organizadas en cadenas (ch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las en cadenas son procesadas en el orden que apare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regla la cumple un paquete, la accion especificada es tom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l paquete no cumple la regla , o hay una acción=passthrough, la siguiente regla es proce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ción de default para la cadena es hecha después de haber alcanzado el fin de la cad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denas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default hay 3 cadenas inclu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put – procesa paquetes que tienen como destino el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utput – procesa paquetes que son mandados por el mismo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ward – procesa trafico que ‘pasa’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é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l ru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usuarios pueden añadir sus propias cadenas de firewall y reglas a e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las en las cadenas añadidas por el usuario pueden ser procesadas usando la opción=jump desde la cadena del usuario a otra regla en otra cad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ciones de las reglas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una regla de firewall se cumple para un paquete, una de las siguientes acciones puede hace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sthrough – action es ejecutada y la siguiente regla es proces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ept – paquete es acep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rop – paquete es ign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ject – paquete es ignorado y se le manda un mensaje ICMP al que lo 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mp – paquete es mandado para su procesamiento a otr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turn – paquete es retornado a la tabla previa , desde donde fue recib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tegiendo el rute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acceso al router es controlado por las reglas de filtrado de la cadena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, Los filtros de IP no filtran comunicaciones de nivel 2 OSI, por ejemplo MAC 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habilite el MAC-Server al menos en la interfase publica para asegurar buena segu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dena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ga reglas en esta cadena como es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“established” y “related”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pings limitados, hacer drop de exceso de 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acceso de redes “segur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ir acceso via PPTP V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rop y log todo lo d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cadena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connection-state=established comment="Established connectio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connection-state=related comment="Related connectio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comment=“Allow UDP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icmp limit-count=50 limit-time=5s limit-burst=2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Allow limited ping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icmp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excess ping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src-addr=159.148.147.192/28 comment="From trusted network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src-addr=192.168.1.0/24 comment="From our private network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tcp-options=syn-only dst-port=1723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Allow PPTP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47 comment="Allow PPTP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action=drop log=yes comment="Log and drop everything els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cadena definida por el usu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rule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tcp dst-port=135-139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udp dst-port=135-139 action=drop comment="Drop Messeng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tcp dst-port=445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protocol=udp dst-port=445 action=drop comment="Drop Blaster Worm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ltrado de virus conoc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quetes iniciados por virus conocidos, pueden ser filtrados por reglas en alguna cadena definida por el usu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ip firewall rule 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135-139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dst-port=135-139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Messeng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445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udp dst-port=445 action=drop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ent="Drop Blaster Worm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4444 action=drop comment="Wor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 protocol=tcp dst-port=12345 action=drop comment="NetBu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ce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icencia es por instal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as funcionalidades requieren de cierto nivel de licenciami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icencia nunca expira , esto significa que el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ead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funcionara “de por vida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uteador puede ser actualizado durante el periodo de actualización (1 año después de la compra de la licenci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eriodo de actualización puede ser extendido a un 60% del costo de la lice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Jump a la cadena definida por el usu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ump a la cadena definida por el usuario desde las cadenas input y forward despues de las primeras dos reg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connection-state=established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ment="Established connection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connection-state=related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ment="Related connection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dd action=jump jump-target=virus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ment=“Checando por viru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eja su router de accesos no autorizados con cadenas de in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a acceso solo desde la red que estas usando en la laptop y el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 todo acceso no autor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ueba si el acceso ha sido bloqueado desde fu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rcado de paqu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quetes pueden cambiar sus parámetros iniciales, ejemplo, sus direcciones dentro del firewall, de la misma manera los paquetes pueden ser marcados para identificarlos después dentro del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r es la única manera de identificar paquetes dentro de los queues de ár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do de paquetes puede ser usado como un clasificador para diferentes políticas de rut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empre cheque el diagrama de la estructura del firewall para entender los procedimientos correctos de configuración del fire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cking’ de Conex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ection Tracking (CONNTRACK) es un sistema que crea una tabla de conexiones a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tatus es asignado para cada paqu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alid – paquete ya no forma parte de ninguna conexión cono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ew – el paquete esta abriendo una nueva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ished – el paquete pertenece a una conexión estable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lated – el paquete crea una nueva conexión relativa a alguna conexion ya 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tatus no es necesario solamente para conexiones TCP. De cualquier manera ‘connection’ es considerada aquí como un intercambio de datos de dos v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tatus es usado en los filtros de 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TRACK es usado para marcar los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NTRACK es necesario para hacer 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at de or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RC-NAT permite el cambio de dirección origen y puerto a la dirección local y puerto del ruteador (enmascaramiento), o algún otra dirección y puerto espec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licación típica de  SRC-NAT es esconder una red privada detrás de una o mas direcciones pu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origen trasladada debe pertenecer al ruteador, a menos que otras medidas sean tomadas para asegurar el uso de diferentes dire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SRC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pecifique la dirección origen a ser enmascar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src-n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src-address=192.168.0.0/24 action=masque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, Especifique la interfase de salida, cuando enmascaramiento deba ser us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ip firewall src-n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d out-interface=Public action=masque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SRC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 tu ruteador para enmascarar trafico originado desde tu red privada, cuando esta salga del ruteador por la interfase pub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 el diagrama como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35592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 permite cambiar la d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el puerto del receptor a alguna otra dirección y puerto conocido localmente por el rute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llegue a e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vía ru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picamente usado para acceder servicios en una red privada desde direcciones publicas accediendo las direcciones publicas que enmascaran alguna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de Destination 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reccione el puerto TCP  2323 al puerto 23 del rou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firewall dst-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protocol=tcp dst-address=10.5.51/32:2323 action=redirect to-dst-port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, haga NAT al puerto interno (23) del 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ip firewall dst-n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d protocol=tcp dst-address=10.5.51/32:2323 action=nat to-dst-port=23 to-dst-address= 192.168.0.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boratorio de 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figura tu ruteador para trasladar paquetes con destino la ip publica y puerto 81 hacia la dirección interna y puerto 80 del servidor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e el diagrama como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481720" y="2157480"/>
            <a:ext cx="237168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Lice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0: DEMO, GRATIS, tiene todas las funcionalidades sin limite, funciona solo 24 hrs, después de ello debe de ser REINSTA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1: Licencia SOHO, GRATIS, pero requiere registrarse en </a:t>
            </a:r>
            <a:r>
              <a:rPr b="0" lang="es-ES_tradnl" sz="28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mikrotik.co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, tiene limitaciones, (1src-nat, 1dst-nat, 1 pppoe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s acerca de DST-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mandar datos a algún servidor a otro servidor y puer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ST-NAT permite esconder varios servidores detrás de una dirección IP. Los servidores son seleccionados por puerto, o por algún otro parámetro, como origen del paque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parando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re los contadores de paquetes y bytes para las reglas de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eva las reglas para que se ejecuten en el orden corr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e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paquetes para ver que protocolo, direcciones y puerto tie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Licenciamiento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4: WISP,  cliente inalámbric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o de Acce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nalámbrico, gateway de HotSp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ivel 5: WISP AP,  Access Point inalámbrico y cliente, Gateway de HotSpot (mas conexiones soporta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ve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6: CONTROLLER, Todo sin lim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ta: Una Licencia basta para cualquier numero de interfaces inalámbricas en el rute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ísticas de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uteo. Estático o dinámico, políticas de enru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idging. Protocolo Spanning tree, interfaces múltiples bridge, firewall  en el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es y clientes: DHCP, PPPoE, PPTP, PPP, Relay de DH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che: Web-proxy,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teway de HotSp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nguaje interno d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ísticas del Rout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trado de paquetes 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igen, IP de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ocolos, 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enido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ui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conexio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P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detectar ataques de denegación de servicio (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solamente cierto numero de paquetes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pasa enseguida si el limite es desbordado o sobrepa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lidad de Servicio (Q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os tipos de tipos de que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, BFIFO, PFIFO, PC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cillo de aplicar queues si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origen/destino red/dirección ip de cliente, inter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Árboles de queues mas complej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protocolo, puerto, tipo de conex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11:07:11Z</dcterms:created>
  <dc:creator>Arnis</dc:creator>
  <dc:description/>
  <dc:language>en-US</dc:language>
  <cp:lastModifiedBy>Alfonso Urbina Araux</cp:lastModifiedBy>
  <cp:lastPrinted>2002-11-13T14:42:35Z</cp:lastPrinted>
  <dcterms:modified xsi:type="dcterms:W3CDTF">2006-02-23T20:18:58Z</dcterms:modified>
  <cp:revision>213</cp:revision>
  <dc:subject/>
  <dc:title>Wireless Hotspot Access</dc:title>
</cp:coreProperties>
</file>